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009E-F380-4334-A9AA-D71FE092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BF4-5856-4FC5-B1E8-6BD26188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37895-678D-43B9-97E6-550BA801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740F2-5C09-4B79-B35D-4D9822AD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31DE7-2DD0-4C47-B587-03949F3D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5D1D4-19A3-4C60-B9EB-1CEBF9DA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A7857-1B22-4609-AD4E-6557A769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A5033-F9D8-46E9-9098-E7B89E50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1609D-BFFF-4CDB-8A65-34AF3EA1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195ED-DE81-4350-9DED-C750EE1E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50020-2F6D-483B-AB0F-CC014381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1B27C-9650-4CB2-A92C-110B6539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F8CB-DD9E-4D6E-B6A3-6597B2D8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642B3-D244-4EC7-8D67-B80DF562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1F0E0-38B4-4AE6-B254-B01561BE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4EFB7-BBB2-4DC2-9030-8E71FD8A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E02C7-2AAB-4FC6-8489-AD9A41C9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22F57-44AB-47EB-9778-D74AC89F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3D98D-C666-46BA-AF3E-3810E547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710CD-6444-4A9E-B3C9-C3ABC270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8E339-41F3-4531-AF6F-3F06A939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8F316-8BE5-4A71-85A8-7017E72A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15D7B-C436-4CB6-B917-769E3284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BB5-CA68-4B19-9CCB-02530CF5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A90D1-24A3-4D0F-A6FD-8646B6BD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AA576-0FB0-4EB6-8E7A-EC8C4A8A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8A633-D570-471C-842F-7EB6D48A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F1BE5-D6B3-479C-B51C-09BEBD20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9BF55-679C-4229-8926-37C39865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0316B-8875-41BF-8DA8-E3D44AEE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663D7-B66F-44B7-8C68-6B8DB6DF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EC3AA-0DF5-4099-A37E-A110DAD9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335F9-47A3-4F9B-8BC1-6D9F8170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63B67-13F2-4BB8-B18C-5ABE5FB6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B8D6-E41E-4CD0-B19F-ECDEC08F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744FD-403D-41F4-9CA5-8EA8F482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BE283-5850-44FE-BFC4-9F2C7351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318D0-92AD-49E2-90CC-052D41BF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11200-E0C0-4BBA-B4F4-1CD0CDC6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43D42-CBF0-47D0-A447-00744F2D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071C1-24A1-4C46-8356-6E53ECAD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FE91A-3826-4A9A-A16A-13592C9E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302AA-3BC9-46F1-84C4-7CC1EA2F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87FA8-E7E5-4895-BBCC-52A6E5A0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0F63C-CDDA-484A-AB23-3D716A23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1A0A-2FD0-4956-A9E2-DAF01C87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B2264-EBEB-465F-9C04-8F9683B4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D9CEE-609F-4DFD-8E39-BE1B9AF8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D7F1B-C14A-4A33-9F60-A4E1C1C5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4E457-1875-4967-B5A0-DB6CFB21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239F2-A4CB-4AFC-B86F-C58E53C3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9C330-360E-4582-83C9-CF1E513C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F368D-5AA2-46CE-8EB5-96BEE8B6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904E0-C70C-445B-B3AF-37992953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7BBDC-02A5-4F4D-B44A-F737CEDA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74F13-1B65-446A-ABF1-A5255EC4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0522-24D8-4BF3-AD71-5764F43B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62E40-87ED-438F-BD92-9187E454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DD817-CD07-4C31-923E-8C1A8557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E5E81-6B55-4E37-826B-3915586F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EB71B-D208-4EF7-B6C0-D104EF55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51137-DA5E-436F-9852-34FEED3C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3B1D43-B3FE-455F-B5FC-8D898767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FD2ED-8277-4932-A4E4-09EF6028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751C04-3326-4F16-BD3F-A8A2B15D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A0111D-A6BA-4B8D-AB2F-5A79A7A6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CC94BA-9276-4073-8B15-DF609C87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889E-391C-4E29-B753-34F24145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404664-5457-4B86-9D08-4B7A7523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C6704-AF5F-4594-8258-3817F775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F9CC21-1744-4A4A-9873-7F552AB8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3A2ED0-DEB4-4308-9321-86C4D1A5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A75C8-3E4A-4F3E-A32C-BC68C762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F3B4F6-9AC5-44A5-9113-C617BAD5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5D5FCD-295E-4E15-93DC-813468A3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7B9EC-2F12-4D4D-930A-99AD07E8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42A3FC-0345-47A1-999B-F44AE11D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105294-12ED-48A7-966E-E458EE61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D364-0C4E-4C60-949B-B2835223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43A138-18C7-4DA6-9A0E-C8A123D8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23248D-A8AC-4F92-8D83-17D56A99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1574E1-7685-49CA-960F-AD5B0EB4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466064-D149-4338-8E43-B07B375A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0DF48B-36A7-483D-9B68-15978E7D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CEE05B-B33E-4949-B382-4347AAB7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4E7DFF-1FCF-498E-8305-E358D23A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8FA38C-2C0F-4311-8DB6-B082FF68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889E48-94CD-459D-81FA-B2A2DF48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3C82E-9096-4685-A093-F368D7E5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0E8A-3E2E-4021-B8F2-2B76A59C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53D854-2EB8-4EF6-801E-F3A01528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680D67-74AE-4559-B801-892F6343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502F74-16EE-44E6-B1BF-35F38A7D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511BE3-BB1E-493B-8B48-F668A0A5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4367C6-3EFB-4C3D-8EE4-A741B53F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255C58-9EB2-4B05-AE94-88D2975B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7E7942-77B0-4EAB-9972-73903ACD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2B87AE-29C1-4C77-8DEC-5ACBCFD0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647B8A-5CB2-49EB-84FD-A0BF1438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C3E2EB-2374-403E-9AA7-17E1E963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4707-DA56-4083-8628-11BA9F38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285905-120D-4857-84CB-19231539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AC1889-34E9-4F92-A81F-19433D27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7F4707-9CA0-449A-8EEB-4A994B78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676200-FE5C-467F-8A17-C5E3A892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E465DC-D5E0-4F92-90A3-AFFAEA81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E292B4-E83F-4638-8F9A-89A6183B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CE9A46-B905-4B1F-857C-2E53ADA4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538FC2-414D-463C-BEAA-8F3ACA4F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98A15F-89F2-4076-AD26-298D272F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E7F27B-F94D-4FD9-B249-F3AE940F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9F05-259C-436D-9C8F-354FA7DE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3D95-41AA-4C6D-A275-7705E6C4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6481A7-698A-4CEE-99BE-67868F77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DFF28A-E0FF-49B8-8D74-68ABD4F6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8BEB3F-DA6F-46C0-838C-FE8FA3C2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C00F49-59D9-4C45-9A94-6DF09A05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58CC9A-3D94-4A2E-89C6-B2BAEC64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CE6982-4FEB-4E94-8DA2-01AB6ABB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0BBF7A-F9C6-44FE-98DA-838AD850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901BDE-E01A-40B3-8396-63C02CA1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6E6706-8B04-4055-878D-F0FEE2A4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1C20D5-35E7-4B4E-BB80-D30285E7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2204-99A5-43B2-9B6D-EC97A73B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73B485-EFA8-488E-9904-BC8535B5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E4F427-D203-4164-8104-DFF509C7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4CCD86-C124-459B-AD4F-469CF0CF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0DF237-1968-4A21-A8C5-3D021D2F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0BAF94-183D-4426-8A84-1D97E19B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B38210-0320-4141-9DFB-7C23EA7C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9C325B-3E57-45CB-BE4C-15DCC5C4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9B10AB-B847-454D-9057-5182CBD9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9354F0-D08C-4234-B681-C74CE49B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EC78BD-AB19-4263-9D27-6267C3EE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FE9D-3051-4FDE-8950-2353C9F7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AD688B-2B2E-4751-8615-258A434E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73C58A-DAF3-481B-8D16-BFA52487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71A830-44F9-450E-B52E-2480B91D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427692-5A8A-437E-93A4-9CCF454E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E877BB-6A71-4103-BE8B-47E30E06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16FC77-7D56-49B8-BD55-4FA2F372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171B85-1EEA-4499-956E-F3008C59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645268-7AEC-4EE3-84B7-A64D4AC1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2A2FCC-AD44-45D3-A9C0-24E9D04B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6E770A-37BB-4FC3-861D-E0698ADC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3CA4-24EC-4F15-9974-885E8905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9A1FE1-D781-4285-849D-64494C88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36443F-8E0C-44DA-B465-1B593742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5F5EF4-7FB9-47F5-8417-605C2494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4ACCE7-D844-41BD-882C-FAEFF308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D5B28D-2565-4756-846C-8B430695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8114DB-983C-4637-97C2-183CCB5C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ED4DBF-DCC2-4E18-BF04-AB8F25F4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50AE95-44EF-4588-A53A-FC774A84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C49385-8448-4B19-9B3D-B5553EE0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9FC8A4-FF79-4AF3-9EBB-2A1E9C2B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C14D-B480-476C-9529-456FC86B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FA46DD-6D0D-4A8E-A01D-D3BBB5F1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7CA57F-A250-404D-BDD6-266D1682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1ACF4D-BE29-4A9C-889E-79BB846B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112751-C099-4BAD-9DC1-83575BCE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D89879-4751-4A66-BF41-A13297DD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9B8E62-BB30-4ECC-A4CF-5E5329A4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4488C2-6BA6-4E72-BA1B-63098D56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A9D69A-5282-4A1C-AD55-AAA7CD54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3043A9-D58A-424E-B4DE-41EF3CDE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AC4892-80D4-404E-93BE-C66C08D0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863C7-2259-43DF-A9CB-7996E579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F1C68C-FE32-4E62-913B-327A045D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6A0F96-5048-4462-97D4-2A3BB71A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6E6E9C-5F43-4473-8046-54EE783B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275C4-6F1F-4DAA-98B7-79690163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D4D46-DC02-48F3-8D58-B22BEAEB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D9AC1-89A5-48DD-B908-D8C30F0F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AB2F7-6079-4C51-94B9-093661A2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40A-6D0E-4862-B8CD-C766F7D4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A7437-828E-4D2F-B1C3-5A3E9BAB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C4CD6-F867-4C3B-A4C0-A4678489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3650A-B147-454A-B966-7AA26313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A754D-F10A-4A5A-805E-8D482D24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DDA5A-0E32-47B3-ACED-66299503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9B06C-E537-4195-B1E3-DD86D883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48E68-7684-4666-966F-E118CD9F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9FC10-F636-48D1-AC34-2E9EC639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EA49C-0DC3-4D13-8078-EDA3B6E9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82752-2595-42D4-9173-93C2E312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5BF-E10D-4853-90E7-DBC3111C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56D01-8D7F-49D3-8097-7CCCFF17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9415D-66F1-4092-8416-FB4AFD42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1AA49-1EFA-4E46-8E23-B34E701E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9BAAD-C233-4F93-B129-F0B1791C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1EAEB-D666-4ABB-AB78-ACD797A1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8536B-7D7A-48F1-97E4-905A72CB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374D7-31F6-4597-8C7E-0E88C7A8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A2791-3066-476D-B3B3-673B059F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66266-3086-4C10-875F-D256BD76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FDDA8-0BE8-4D0A-85A6-F928113A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077-1583-4297-A28F-A1EAB13E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CC386-0877-48A0-8468-91DB90F8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F556F-2CB4-4ECE-98F6-0308165A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9C180-ECB3-4F33-B5B2-BA882334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511AC-96BA-4D53-982D-C0A8C53C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EC124-9721-4506-B3FC-0B143FBB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4E8D8-2D04-4D32-A823-323A5539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71400-6AE9-4442-AB52-3129EDB6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9D757-FC14-4DE4-983C-B19E0CF4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EA471-A008-41E9-B37E-3B15C394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14192-0352-46A9-96E3-5176799F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9423-F5FE-4B0F-9401-80E5AAFF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42DEB-4AAC-416A-A6DE-ACA6B43D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2D761-6EFC-46AB-BE6C-B71FA435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DEA56-91AD-4E81-B885-21B13595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BA1DF-A1F7-4AD4-B121-7473AB43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177D3-4CC8-4205-B7CA-F7A76985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8CFFD-B5D0-4A87-8EF0-8319587E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BF04B-76A0-4887-A565-4DC2132D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240C7-4B09-4350-9374-C8864232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1BA64-15AE-4E69-8C92-900723D0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A707E-F8E2-4B28-9612-A6A240DD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68F-3FF8-4742-90E3-E8230DF9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AE588-D824-4164-B55B-DCE42557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971AF-D982-4A3F-9169-3C1A1E56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3803F-DB10-4251-95AA-63610AFE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71CF1-4194-41B4-ACDF-22193AAF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8449D-B431-4E59-8011-4687EE10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D16F9-DBDA-4D8C-8C14-A9507F3A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9E615-5949-47F9-9492-323299C3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1F480-D85F-4E29-B73A-FF825D95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BCEC8-01E2-439E-A876-F343C59D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909D9-485D-48FB-B76A-C6D6855E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02B-65D4-47E4-A5F7-C7FC4422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E1B43-506C-4133-B6A7-5E132EE8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C5341-1473-41F9-A7BE-15F5E0C8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97F94-4638-4DB3-B3F8-FF236554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3462F-B107-4758-BFA2-86116483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40795-E3D1-402A-88A0-3A9A8CC3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93C90-316D-4425-8642-DB92AB9A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E9627-4FFE-403D-AF9E-880FA691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C6C56-2894-4BDC-B346-F455A3D8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62728-D03F-41FE-AD52-47B301D1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64EAC-1DB4-4CBE-B70A-AAB6D583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2E3B-4391-4983-9231-98082C5F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7A490-6B85-47EF-9485-448E5DAE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56C74-C03B-465A-B179-CC5ABC32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543CF-4842-4EF6-9E94-F69691DE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733E1-06F4-477F-9406-9223CD4A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72261-37F0-4A34-BC9B-C65105C0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B2CFC-19A4-478E-9125-2DCB4EE4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43E9C-76A9-4EDA-991C-090C89AC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AB320-07C9-472A-9DB9-69E4DD97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5A093-0B1D-4171-B46D-25147476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B7A16-03DB-4FE1-9CB1-4FE94A08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1403-7CA3-4F1E-AA60-CC9538EFFD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9A57-B4E3-4F04-9AE8-EB37068887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B965-D0F7-4F3F-85FA-F1ECBA0C10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F934-1C95-49CC-8BC3-BA5ACE950B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1299-E27D-45DE-ADDF-CEA687694C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8781-FEC1-4A45-BF9E-84E5CD21CF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EF69-C979-4FB2-9A59-5E2806A7C2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3D5C-BDE1-4B26-9197-5FC749D3D4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F67F-A3BB-4918-B851-8595EBB058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C88F-23BC-4BD0-A9BE-999FFA778D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8EA6-78EA-4FB0-9593-DC04161003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7873-1157-4620-A117-88A573EED1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07FC-D052-4132-85B2-3F07D2C8D6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7797-B338-435E-83B1-7C0E684C91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522D-03D9-4E49-934D-BEC4CC0511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DDDC-E0A0-45B3-9E8C-EB50DA0024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3DCB-6531-4C46-B92A-2650E99D80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5C8E-2DC6-44E8-A010-9205E81270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94FA-2C86-4420-92DE-54C97019AE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B838-3DDC-4D44-B586-134D9E80BB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92DC-6997-461E-A3DE-BF6060DC48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39D4-2BA2-499B-A804-5C65FE86E3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4E14-019C-44C5-8095-5D4C7BBA50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426B-9163-428A-8258-011D12CF4B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5C07-E47A-4301-BB74-15198315D6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B0DB-1B57-4077-A6E4-D0C741369E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C7F1-FD7D-44C0-835C-256F0822C9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4E9D-8BE4-4C86-877F-B6069ED93B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CD4A-60F8-4D1E-84C4-BACB4B6B4C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D81F-9E79-4110-88F2-03B8EE5561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58C2-DB24-47A0-80BF-593E5FA7F2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4240-2337-4D94-9FDD-FCA389E16C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D5BB-9722-4666-8FF6-E6AE94F4C4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EF8C-BFA1-4E3C-A36F-BD4948803C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C40B-38DD-4534-A499-114BAB682D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4953-5FE8-4B1A-BCF5-51E3D451E2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3474-6DA5-46D1-9BCD-FEA48DCCD1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2518-0F9C-4031-A72F-079177F61E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C3FB-D25D-44D9-9E2E-269E6792E5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B4C1-C5F3-40C1-A7E9-48DAC672D4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3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004840" y="3186000"/>
            <a:ext cx="513432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52280" y="1700280"/>
            <a:ext cx="8839440" cy="34574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511440" y="3068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237360" y="3068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116000" y="35449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8172360" y="3519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132000" y="4086360"/>
            <a:ext cx="64800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47640" cy="257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2340000" y="4743360"/>
            <a:ext cx="86364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304920" y="1285920"/>
            <a:ext cx="8534160" cy="42861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1258920" y="2411280"/>
            <a:ext cx="504720" cy="195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1969920" y="2421000"/>
            <a:ext cx="505080" cy="1951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2681280" y="2421000"/>
            <a:ext cx="504720" cy="1951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3059280" y="1803240"/>
            <a:ext cx="792000" cy="4320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3390840" y="2421000"/>
            <a:ext cx="504720" cy="1951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7"/>
          <a:stretch/>
        </p:blipFill>
        <p:spPr>
          <a:xfrm>
            <a:off x="4816440" y="2411280"/>
            <a:ext cx="504720" cy="195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8"/>
          <a:stretch/>
        </p:blipFill>
        <p:spPr>
          <a:xfrm>
            <a:off x="5219640" y="1803240"/>
            <a:ext cx="792360" cy="4320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9"/>
          <a:stretch/>
        </p:blipFill>
        <p:spPr>
          <a:xfrm>
            <a:off x="5551560" y="2411280"/>
            <a:ext cx="504720" cy="195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0"/>
          <a:stretch/>
        </p:blipFill>
        <p:spPr>
          <a:xfrm>
            <a:off x="6246720" y="2421000"/>
            <a:ext cx="505080" cy="1951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1"/>
          <a:stretch/>
        </p:blipFill>
        <p:spPr>
          <a:xfrm>
            <a:off x="6372360" y="1803240"/>
            <a:ext cx="792000" cy="4320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2"/>
          <a:stretch/>
        </p:blipFill>
        <p:spPr>
          <a:xfrm>
            <a:off x="6943680" y="2421000"/>
            <a:ext cx="504720" cy="1951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3"/>
          <a:stretch/>
        </p:blipFill>
        <p:spPr>
          <a:xfrm>
            <a:off x="7651800" y="2416320"/>
            <a:ext cx="560160" cy="1998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4"/>
          <a:stretch/>
        </p:blipFill>
        <p:spPr>
          <a:xfrm>
            <a:off x="7308720" y="1805040"/>
            <a:ext cx="792360" cy="4316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5"/>
          <a:stretch/>
        </p:blipFill>
        <p:spPr>
          <a:xfrm>
            <a:off x="3564000" y="283860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6"/>
          <a:stretch/>
        </p:blipFill>
        <p:spPr>
          <a:xfrm>
            <a:off x="6227640" y="2852640"/>
            <a:ext cx="576360" cy="257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7"/>
          <a:stretch/>
        </p:blipFill>
        <p:spPr>
          <a:xfrm>
            <a:off x="7885080" y="4330800"/>
            <a:ext cx="79056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8"/>
          <a:stretch/>
        </p:blipFill>
        <p:spPr>
          <a:xfrm>
            <a:off x="7885080" y="4788000"/>
            <a:ext cx="79056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9"/>
          <a:stretch/>
        </p:blipFill>
        <p:spPr>
          <a:xfrm>
            <a:off x="7885080" y="5257800"/>
            <a:ext cx="7905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8373" descr=""/>
          <p:cNvPicPr/>
          <p:nvPr/>
        </p:nvPicPr>
        <p:blipFill>
          <a:blip r:embed="rId1"/>
          <a:stretch/>
        </p:blipFill>
        <p:spPr>
          <a:xfrm>
            <a:off x="162000" y="1386000"/>
            <a:ext cx="8820000" cy="40860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2411280" y="2079720"/>
            <a:ext cx="86544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6588000" y="2070000"/>
            <a:ext cx="865440" cy="2574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2340000" y="2530440"/>
            <a:ext cx="86508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5796000" y="2521080"/>
            <a:ext cx="86508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图片 58378" descr=""/>
          <p:cNvPicPr/>
          <p:nvPr/>
        </p:nvPicPr>
        <p:blipFill>
          <a:blip r:embed="rId6"/>
          <a:stretch/>
        </p:blipFill>
        <p:spPr>
          <a:xfrm>
            <a:off x="544680" y="3467160"/>
            <a:ext cx="6524280" cy="15048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7"/>
          <a:stretch/>
        </p:blipFill>
        <p:spPr>
          <a:xfrm>
            <a:off x="8566200" y="224784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8"/>
          <a:stretch/>
        </p:blipFill>
        <p:spPr>
          <a:xfrm>
            <a:off x="8551800" y="263700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9"/>
          <a:stretch/>
        </p:blipFill>
        <p:spPr>
          <a:xfrm>
            <a:off x="8551800" y="303516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0"/>
          <a:stretch/>
        </p:blipFill>
        <p:spPr>
          <a:xfrm>
            <a:off x="8551800" y="345744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1"/>
          <a:stretch/>
        </p:blipFill>
        <p:spPr>
          <a:xfrm>
            <a:off x="8551800" y="387972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2"/>
          <a:stretch/>
        </p:blipFill>
        <p:spPr>
          <a:xfrm>
            <a:off x="8359920" y="429264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3"/>
          <a:stretch/>
        </p:blipFill>
        <p:spPr>
          <a:xfrm>
            <a:off x="8359920" y="472428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4"/>
          <a:stretch/>
        </p:blipFill>
        <p:spPr>
          <a:xfrm>
            <a:off x="8450280" y="5129280"/>
            <a:ext cx="360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07:22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